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720B-EFE8-4AEE-A85A-591B64939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2D3A-1B08-41D3-92B9-295065C9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E2E2-3229-4081-BCB1-FB2FE2E8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DAA9-BBF1-4547-A8ED-A60EFE46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467B-BFF4-4EE4-9485-705387DE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4CAB-0EC0-4741-A4C9-21304967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2725-D373-4467-941C-A7CC9DC4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92B7-65B4-493C-9658-37CD0422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36B1-11E9-4D16-A541-DB0A7122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CE1B-7105-4788-AB50-DCD24E8A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CC59-EE64-4DB1-8E8C-9FF537974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F3DB-59CE-44D6-ADD1-E24911ABB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powerpoint slide 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powerpoint slide 4.jpg"/>
          <p:cNvPicPr/>
          <p:nvPr/>
        </p:nvPicPr>
        <p:blipFill>
          <a:blip r:embed="rId2"/>
          <a:stretch/>
        </p:blipFill>
        <p:spPr>
          <a:xfrm>
            <a:off x="0" y="-3049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28C5-B4F2-483C-9E91-603A62E7B41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640D-A2DF-456F-907A-DCA23411BA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6" descr="powerpoint slide 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5429160" y="285840"/>
            <a:ext cx="2710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Verdana"/>
              </a:rPr>
              <a:t>Senior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powerpoint slide 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6" descr="powerpoint slide 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5429160" y="285840"/>
            <a:ext cx="2710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Verdana"/>
              </a:rPr>
              <a:t>Senior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357120" y="1071720"/>
            <a:ext cx="8501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alibri"/>
              </a:rPr>
              <a:t>Task 1  </a:t>
            </a:r>
            <a:r>
              <a:rPr b="1" lang="en-GB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GB" sz="3600" spc="-1" strike="noStrike">
                <a:solidFill>
                  <a:srgbClr val="ffffff"/>
                </a:solidFill>
                <a:latin typeface="Calibri"/>
              </a:rPr>
              <a:t>List the 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expectations</a:t>
            </a:r>
            <a:r>
              <a:rPr b="1" lang="en-GB" sz="3600" spc="-1" strike="noStrike">
                <a:solidFill>
                  <a:srgbClr val="ffffff"/>
                </a:solidFill>
                <a:latin typeface="Calibri"/>
              </a:rPr>
              <a:t> discu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alibri"/>
              </a:rPr>
              <a:t>                  </a:t>
            </a:r>
            <a:r>
              <a:rPr b="1" lang="en-GB" sz="3600" spc="-1" strike="noStrike">
                <a:solidFill>
                  <a:srgbClr val="ffffff"/>
                </a:solidFill>
                <a:latin typeface="Calibri"/>
              </a:rPr>
              <a:t>by group 1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"/>
          <p:cNvSpPr/>
          <p:nvPr/>
        </p:nvSpPr>
        <p:spPr>
          <a:xfrm>
            <a:off x="357120" y="1071720"/>
            <a:ext cx="85010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alibri"/>
              </a:rPr>
              <a:t>Task 1  </a:t>
            </a:r>
            <a:r>
              <a:rPr b="1" lang="en-GB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GB" sz="3600" spc="-1" strike="noStrike">
                <a:solidFill>
                  <a:srgbClr val="ffffff"/>
                </a:solidFill>
                <a:latin typeface="Calibri"/>
              </a:rPr>
              <a:t>List the 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desired outco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                 </a:t>
            </a:r>
            <a:r>
              <a:rPr b="1" lang="en-GB" sz="3600" spc="-1" strike="noStrike">
                <a:solidFill>
                  <a:srgbClr val="ffffff"/>
                </a:solidFill>
                <a:latin typeface="Calibri"/>
              </a:rPr>
              <a:t>discussed by group 1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1"/>
          <p:cNvSpPr/>
          <p:nvPr/>
        </p:nvSpPr>
        <p:spPr>
          <a:xfrm>
            <a:off x="428760" y="1071720"/>
            <a:ext cx="40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Task 1 -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285840" y="1714680"/>
            <a:ext cx="8572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Calibri"/>
              </a:rPr>
              <a:t>2 key expec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Calibri"/>
              </a:rPr>
              <a:t>2 key desired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4"/>
          <p:cNvSpPr/>
          <p:nvPr/>
        </p:nvSpPr>
        <p:spPr>
          <a:xfrm>
            <a:off x="5786280" y="114300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Group 1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3:45:17Z</dcterms:created>
  <dc:creator>M Jack</dc:creator>
  <dc:description/>
  <dc:language>en-US</dc:language>
  <cp:lastModifiedBy>JMH</cp:lastModifiedBy>
  <dcterms:modified xsi:type="dcterms:W3CDTF">2009-11-07T11:52:28Z</dcterms:modified>
  <cp:revision>148</cp:revision>
  <dc:subject/>
  <dc:title>Slide 1</dc:title>
</cp:coreProperties>
</file>